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18EF-C358-4477-A5EE-418CFC5BF7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ust play through the manchuria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B18F-0D7D-479A-97EA-8CD40D7082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6A78-B0D4-4E05-A277-D6677656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7776-BD07-4DC8-9A8A-C2D8EA00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8F06-3355-4A6B-9D2F-E38DC3FF1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E508-EB88-4475-A35D-C2AE0C098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95BB-B34F-4AA5-AAF4-A9E5BF99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4009-93E1-42D9-9391-D2734645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7F00-9FA3-43DA-BB2E-DF8557AF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0D2B-6379-4BEC-B90A-2E5BEBC6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2032-0762-4D63-B388-A2B598C1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235F-C9A7-4F5E-8F39-1C9C9734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A3A1-FA30-4F92-94B7-04D0643B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024D-5571-4ECF-BB6C-878861B8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ad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F1B1-06D2-46C3-A700-FE12F511ED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youtu.be/fYGsdC7Sg38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proprofs.com/quiz-school/quizshow.php?title=quiz-on-effects--depression-on-league-nations&amp;q=3&amp;next=y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42920" y="217440"/>
            <a:ext cx="8353440" cy="302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o Now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ll in the blanks to learn why militarism was growing in Jap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Think about the work on the impact of the ‘Depression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tension- summarise the key information in a short paragraph within your 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41120" y="3573360"/>
            <a:ext cx="8818560" cy="3142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Key word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conomy- the movement of money (buying and sel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ilitarism- using your military in an aggressive 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flation- the increase of pr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reaties- agreements between cou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ferior- not as good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4716360" y="1913040"/>
            <a:ext cx="4067280" cy="3384360"/>
          </a:xfrm>
          <a:prstGeom prst="rect">
            <a:avLst/>
          </a:prstGeom>
          <a:solidFill>
            <a:srgbClr val="eef9f4"/>
          </a:solidFill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4859280" y="1954080"/>
            <a:ext cx="406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Source 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 know this sounds all wrong, perhaps immoral, when Japan is flouting the League of Nations, but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1) she was greatly provok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2) she must ere long expand somewhere - for goodness sake let (or rather encourage) her to do so there instead of Australia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3) her control of Manchuria means a real block against Communist aggres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http://www.johndclare.net/images/trample.gif"/>
          <p:cNvPicPr/>
          <p:nvPr/>
        </p:nvPicPr>
        <p:blipFill>
          <a:blip r:embed="rId1"/>
          <a:stretch/>
        </p:blipFill>
        <p:spPr>
          <a:xfrm>
            <a:off x="322200" y="2184480"/>
            <a:ext cx="4249800" cy="3112920"/>
          </a:xfrm>
          <a:prstGeom prst="rect">
            <a:avLst/>
          </a:prstGeom>
          <a:ln w="0">
            <a:noFill/>
          </a:ln>
        </p:spPr>
      </p:pic>
      <p:sp>
        <p:nvSpPr>
          <p:cNvPr id="85" name="TextBox 1"/>
          <p:cNvSpPr/>
          <p:nvPr/>
        </p:nvSpPr>
        <p:spPr>
          <a:xfrm>
            <a:off x="179280" y="26028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w useful are Sources E and F to a historian studying how well the League of Nations dealt with the Manchurian crisis? (12 mar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"/>
          <p:cNvSpPr/>
          <p:nvPr/>
        </p:nvSpPr>
        <p:spPr>
          <a:xfrm>
            <a:off x="328320" y="190188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Source 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322200" y="5307120"/>
            <a:ext cx="424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This cartoon of 1933, by the British cartoonist David Low, is entitled: 'The Doormat'.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4716360" y="5270400"/>
            <a:ext cx="417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A letter from the Master of Peterhouse, Cambridge University, to his friend John Simon, the British Foreign Secretary (193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img240"/>
          <p:cNvPicPr/>
          <p:nvPr/>
        </p:nvPicPr>
        <p:blipFill>
          <a:blip r:embed="rId1"/>
          <a:stretch/>
        </p:blipFill>
        <p:spPr>
          <a:xfrm>
            <a:off x="257040" y="333360"/>
            <a:ext cx="4602240" cy="631044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5429160" y="386064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hat does it say about Japa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429160" y="521640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hat does it say about LO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5"/>
          <p:cNvSpPr/>
          <p:nvPr/>
        </p:nvSpPr>
        <p:spPr>
          <a:xfrm>
            <a:off x="5076720" y="189000"/>
            <a:ext cx="3888000" cy="1079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6"/>
          <p:cNvSpPr/>
          <p:nvPr/>
        </p:nvSpPr>
        <p:spPr>
          <a:xfrm>
            <a:off x="5002200" y="1360440"/>
            <a:ext cx="3959280" cy="1131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7"/>
          <p:cNvSpPr/>
          <p:nvPr/>
        </p:nvSpPr>
        <p:spPr>
          <a:xfrm>
            <a:off x="5076720" y="2611440"/>
            <a:ext cx="3811680" cy="107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Straight Arrow Connector 9"/>
          <p:cNvCxnSpPr/>
          <p:nvPr/>
        </p:nvCxnSpPr>
        <p:spPr>
          <a:xfrm flipV="1">
            <a:off x="2558520" y="1956960"/>
            <a:ext cx="2870640" cy="47880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Straight Arrow Connector 10"/>
          <p:cNvCxnSpPr/>
          <p:nvPr/>
        </p:nvCxnSpPr>
        <p:spPr>
          <a:xfrm flipV="1">
            <a:off x="3742920" y="905760"/>
            <a:ext cx="1477080" cy="1436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Straight Arrow Connector 12"/>
          <p:cNvCxnSpPr/>
          <p:nvPr/>
        </p:nvCxnSpPr>
        <p:spPr>
          <a:xfrm flipV="1">
            <a:off x="2516040" y="3212280"/>
            <a:ext cx="2704320" cy="139932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s1.thingpic.com/images/n3/2RD2kq3oFy9RXpG9VwSqPcGZ.jpeg"/>
          <p:cNvPicPr/>
          <p:nvPr/>
        </p:nvPicPr>
        <p:blipFill>
          <a:blip r:embed="rId1"/>
          <a:stretch/>
        </p:blipFill>
        <p:spPr>
          <a:xfrm>
            <a:off x="212760" y="66600"/>
            <a:ext cx="5438880" cy="4545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212760" y="4640400"/>
            <a:ext cx="32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hat does it say about Japa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212760" y="5560920"/>
            <a:ext cx="32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hat does it say about LO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5200560" y="220680"/>
            <a:ext cx="3889440" cy="107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5002200" y="1360440"/>
            <a:ext cx="3959280" cy="1131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5200560" y="2475000"/>
            <a:ext cx="3811680" cy="107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Straight Arrow Connector 9"/>
          <p:cNvCxnSpPr/>
          <p:nvPr/>
        </p:nvCxnSpPr>
        <p:spPr>
          <a:xfrm flipV="1">
            <a:off x="1402920" y="1956600"/>
            <a:ext cx="4026600" cy="12452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Straight Arrow Connector 10"/>
          <p:cNvCxnSpPr/>
          <p:nvPr/>
        </p:nvCxnSpPr>
        <p:spPr>
          <a:xfrm flipV="1">
            <a:off x="4643280" y="701280"/>
            <a:ext cx="937440" cy="7178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Straight Arrow Connector 12"/>
          <p:cNvCxnSpPr/>
          <p:nvPr/>
        </p:nvCxnSpPr>
        <p:spPr>
          <a:xfrm flipV="1">
            <a:off x="5219280" y="3320640"/>
            <a:ext cx="361080" cy="36432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Straight Arrow Connector 16"/>
          <p:cNvCxnSpPr/>
          <p:nvPr/>
        </p:nvCxnSpPr>
        <p:spPr>
          <a:xfrm flipV="1">
            <a:off x="3997440" y="853560"/>
            <a:ext cx="1735920" cy="199008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250920" y="333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Review and Refl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Up Ribbon 2"/>
          <p:cNvSpPr/>
          <p:nvPr/>
        </p:nvSpPr>
        <p:spPr>
          <a:xfrm>
            <a:off x="250920" y="1015920"/>
            <a:ext cx="4105080" cy="2160720"/>
          </a:xfrm>
          <a:custGeom>
            <a:avLst/>
            <a:gdLst>
              <a:gd name="textAreaLeft" fmla="*/ 1026360 w 4105080"/>
              <a:gd name="textAreaRight" fmla="*/ 3079080 w 4105080"/>
              <a:gd name="textAreaTop" fmla="*/ 0 h 2160720"/>
              <a:gd name="textAreaBottom" fmla="*/ 1800720 h 216072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Vertical Scroll 4"/>
          <p:cNvSpPr/>
          <p:nvPr/>
        </p:nvSpPr>
        <p:spPr>
          <a:xfrm>
            <a:off x="5219640" y="907920"/>
            <a:ext cx="3456000" cy="237672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Curved Down Ribbon 5"/>
          <p:cNvSpPr/>
          <p:nvPr/>
        </p:nvSpPr>
        <p:spPr>
          <a:xfrm>
            <a:off x="395280" y="3645000"/>
            <a:ext cx="3816360" cy="2520720"/>
          </a:xfrm>
          <a:custGeom>
            <a:avLst/>
            <a:gdLst>
              <a:gd name="textAreaLeft" fmla="*/ 954000 w 3816360"/>
              <a:gd name="textAreaRight" fmla="*/ 2862360 w 3816360"/>
              <a:gd name="textAreaTop" fmla="*/ 630000 h 2520720"/>
              <a:gd name="textAreaBottom" fmla="*/ 244620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Horizontal Scroll 6"/>
          <p:cNvSpPr/>
          <p:nvPr/>
        </p:nvSpPr>
        <p:spPr>
          <a:xfrm>
            <a:off x="5218200" y="4025880"/>
            <a:ext cx="3529080" cy="228276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1332000" y="1125360"/>
            <a:ext cx="19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reason Japan invaded Manchu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5724360" y="1311120"/>
            <a:ext cx="25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way the League tried to address the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1332000" y="4546440"/>
            <a:ext cx="19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reason the League was in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5724360" y="457668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way that this event made the League we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03200" y="0"/>
            <a:ext cx="653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: Rounded Corners 1"/>
          <p:cNvSpPr/>
          <p:nvPr/>
        </p:nvSpPr>
        <p:spPr>
          <a:xfrm>
            <a:off x="179280" y="209520"/>
            <a:ext cx="8575920" cy="1014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LI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Why did the League Fail in Manchur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: Rounded Corners 2"/>
          <p:cNvSpPr/>
          <p:nvPr/>
        </p:nvSpPr>
        <p:spPr>
          <a:xfrm>
            <a:off x="596880" y="2349360"/>
            <a:ext cx="3630600" cy="1764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BASIC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(1-2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omic Sans MS"/>
              </a:rPr>
              <a:t>describe</a:t>
            </a:r>
            <a:r>
              <a:rPr b="0" lang="en-GB" sz="2000" spc="-1" strike="noStrike">
                <a:solidFill>
                  <a:srgbClr val="92d05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Manchurian Crisi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: Rounded Corners 7"/>
          <p:cNvSpPr/>
          <p:nvPr/>
        </p:nvSpPr>
        <p:spPr>
          <a:xfrm>
            <a:off x="596880" y="4376880"/>
            <a:ext cx="3630600" cy="1800000"/>
          </a:xfrm>
          <a:prstGeom prst="roundRect">
            <a:avLst>
              <a:gd name="adj" fmla="val 16667"/>
            </a:avLst>
          </a:prstGeom>
          <a:solidFill>
            <a:srgbClr val="d76fc1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DEVELOPE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(5-6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GB" sz="2000" spc="-1" strike="noStrike" u="sng">
                <a:solidFill>
                  <a:srgbClr val="ffff00"/>
                </a:solidFill>
                <a:uFillTx/>
                <a:latin typeface="Comic Sans MS"/>
              </a:rPr>
              <a:t>evaluate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how well the LON dealt with the Japanese invasion of Manchu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: Rounded Corners 13"/>
          <p:cNvSpPr/>
          <p:nvPr/>
        </p:nvSpPr>
        <p:spPr>
          <a:xfrm>
            <a:off x="4786200" y="2454120"/>
            <a:ext cx="3637080" cy="17640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SIMPLE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(3-4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GB" sz="2000" spc="-1" strike="noStrike" u="sng">
                <a:solidFill>
                  <a:srgbClr val="7030a0"/>
                </a:solidFill>
                <a:uFillTx/>
                <a:latin typeface="Comic Sans MS"/>
              </a:rPr>
              <a:t>explai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y Japan wanted to control Manchu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... votes against joining the &lt;strong&gt;League of Nations&lt;/strong&gt; | Conspiracy of Wor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91080" y="4398840"/>
            <a:ext cx="2249640" cy="224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250920" y="185580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uccess Crite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9280" y="26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ere is Manchur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44360" y="15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Map of Southeastern Asian Pacific Region with Japanese flag on Japan."/>
          <p:cNvPicPr/>
          <p:nvPr/>
        </p:nvPicPr>
        <p:blipFill>
          <a:blip r:embed="rId1"/>
          <a:stretch/>
        </p:blipFill>
        <p:spPr>
          <a:xfrm>
            <a:off x="1143000" y="1600200"/>
            <a:ext cx="6858000" cy="4896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/>
          <p:cNvSpPr/>
          <p:nvPr/>
        </p:nvSpPr>
        <p:spPr>
          <a:xfrm>
            <a:off x="2895480" y="1676520"/>
            <a:ext cx="2057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nchu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87120"/>
            <a:ext cx="9144000" cy="83628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y did Japan attack Manchur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-360" y="1068120"/>
            <a:ext cx="5219640" cy="587700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Manchuria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 was region of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China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It was an area rich in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natural resources 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(E.g.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Coal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Iron Ore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) and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farmland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Japan was a growing power in the Pacific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However it lacked natural resources. In particular…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Before 1929, Japan’s economy was based on exporting silk to rich countries, like the US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70c0"/>
                </a:solidFill>
                <a:latin typeface="Comic Sans MS"/>
              </a:rPr>
              <a:t>How did the Great Depression impact on Japan’s economy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Japan needed resources and land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Manchuria seemed a good place to invad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It was close to Japa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Japan already had industry, railways and an army in Manchuri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There was confusion over who owned the area. (China, Russia or Japan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Content Placeholder 5" descr=""/>
          <p:cNvPicPr/>
          <p:nvPr/>
        </p:nvPicPr>
        <p:blipFill>
          <a:blip r:embed="rId1"/>
          <a:stretch/>
        </p:blipFill>
        <p:spPr>
          <a:xfrm>
            <a:off x="5334120" y="4322880"/>
            <a:ext cx="3809880" cy="253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5334120" y="1052640"/>
            <a:ext cx="38098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44360" y="25560"/>
            <a:ext cx="885528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  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What the League di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League sent a group of officials led by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Lord Lytton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study the problem (this took a year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 February 1933 his written report led to the LON ordering Japan to leave Manchur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The Outcom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apan refused to leave Manchuria.   Instead,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Japan left the Leagu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ny countries had important trading links with Japan.   The League could not agree on sanctions or even a ban on weapons sales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ritain and France did not want a war, so nothing was do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Japanese stayed in Manchu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League had fail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95280" y="5732640"/>
            <a:ext cx="4968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ey Question: How has the League failed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ummary in 6 point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In 1931 the Japanese claimed that one of their trains in Manchuria had been bomb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Japanese army used this as an excuse to attack, taking over the Chinese province of Manchu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Chinese denied that the train had been bombed at al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League of nations set up the Lytton Commission to investigate the incident.  Lord Lytton concluded that the Japanese had over reacted and should not have invaded Manchu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Japan ignored the League’s findings and left the organisation.  They started a full scale invasion of Chin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League was powerless to do anything about i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324000" y="33336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ask: Complete the storyboard showing what happened during the invasion of Manchuria and how the League dealt with the inciden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472000" y="4338720"/>
            <a:ext cx="3672000" cy="251928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traight Connector 5"/>
          <p:cNvSpPr/>
          <p:nvPr/>
        </p:nvSpPr>
        <p:spPr>
          <a:xfrm>
            <a:off x="7846920" y="4338720"/>
            <a:ext cx="0" cy="25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traight Connector 6"/>
          <p:cNvSpPr/>
          <p:nvPr/>
        </p:nvSpPr>
        <p:spPr>
          <a:xfrm>
            <a:off x="6634080" y="4338720"/>
            <a:ext cx="0" cy="25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traight Connector 7"/>
          <p:cNvSpPr/>
          <p:nvPr/>
        </p:nvSpPr>
        <p:spPr>
          <a:xfrm>
            <a:off x="5472000" y="527364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traight Connector 10"/>
          <p:cNvSpPr/>
          <p:nvPr/>
        </p:nvSpPr>
        <p:spPr>
          <a:xfrm>
            <a:off x="5472000" y="549108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traight Connector 11"/>
          <p:cNvSpPr/>
          <p:nvPr/>
        </p:nvSpPr>
        <p:spPr>
          <a:xfrm>
            <a:off x="5472000" y="657072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" descr="C:\Users\Gayle\AppData\Local\Microsoft\Windows\Temporary Internet Files\Content.IE5\KMXZUEZU\MC900331514[1].wmf"/>
          <p:cNvPicPr/>
          <p:nvPr/>
        </p:nvPicPr>
        <p:blipFill>
          <a:blip r:embed="rId1"/>
          <a:stretch/>
        </p:blipFill>
        <p:spPr>
          <a:xfrm>
            <a:off x="5472000" y="4554360"/>
            <a:ext cx="1150920" cy="532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https://upload.wikimedia.org/wikipedia/commons/thumb/f/fa/Flag_of_the_People%27s_Republic_of_China.svg/255px-Flag_of_the_People%27s_Republic_of_China.svg.png"/>
          <p:cNvPicPr/>
          <p:nvPr/>
        </p:nvPicPr>
        <p:blipFill>
          <a:blip r:embed="rId2"/>
          <a:stretch/>
        </p:blipFill>
        <p:spPr>
          <a:xfrm>
            <a:off x="34920" y="5594400"/>
            <a:ext cx="1698480" cy="1131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https://rlv.zcache.com/japan_japanese_flag_rectangular_sticker-r0693c9f6431e466fb41b5563c2549d4a_v9wxo_8byvr_324.jpg"/>
          <p:cNvPicPr/>
          <p:nvPr/>
        </p:nvPicPr>
        <p:blipFill>
          <a:blip r:embed="rId3"/>
          <a:srcRect l="0" t="17485" r="0" b="24251"/>
          <a:stretch/>
        </p:blipFill>
        <p:spPr>
          <a:xfrm>
            <a:off x="1844640" y="5594400"/>
            <a:ext cx="2000160" cy="1165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" descr=""/>
          <p:cNvPicPr/>
          <p:nvPr/>
        </p:nvPicPr>
        <p:blipFill>
          <a:blip r:embed="rId4"/>
          <a:srcRect l="15350" t="24802" r="57752" b="14723"/>
          <a:stretch/>
        </p:blipFill>
        <p:spPr>
          <a:xfrm>
            <a:off x="90360" y="1457280"/>
            <a:ext cx="524664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250920" y="189000"/>
            <a:ext cx="864216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Why was the League of Nations unable to stop Japan taking over Manchuria in the 1930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are seven reasons why the League faile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. Weak p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America was not a 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The League's structure/organisation was in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World Depression made nations less coope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. The more the League failed, the less authority it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 Its own members betrayed it and let it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7. The League faced aggressive military fascist p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Task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How many of these factors can you see at work in the League's failure in the Manchurian crisis - w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ext to each one explain how it played a part in Manchu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tension: Why did the League fail in Manchuria? Expl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4:04:17Z</dcterms:created>
  <dc:creator>brettw</dc:creator>
  <dc:description/>
  <dc:language>en-US</dc:language>
  <cp:lastModifiedBy>Short, L (SHS Teacher)</cp:lastModifiedBy>
  <cp:lastPrinted>2020-11-13T07:35:35Z</cp:lastPrinted>
  <dcterms:modified xsi:type="dcterms:W3CDTF">2020-11-13T08:05:55Z</dcterms:modified>
  <cp:revision>41</cp:revision>
  <dc:subject/>
  <dc:title>Why did the League Fail in Manchuria?</dc:title>
</cp:coreProperties>
</file>